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E54B-0529-4A09-AC57-45A63B735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E706-94F4-4A4C-9ACD-9162F8FF5A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-2 Simplifying Expressions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-2 Simplifying Expre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signment:  Pages 10 - 11 / 2 - 44 ev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alcul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xpress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roup of symbols used to represent a nu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represented by the exp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Equ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mbination of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y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equality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Inequalitie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qua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by placing an inequality symbol between an expression and a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Result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is the result of 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is the result of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t is the result of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otient is the result of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e main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1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Order of Operation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1st Grouping symbol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2nd Powers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3rd Multiplication &amp; Divis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2000"/>
                </a:solidFill>
                <a:latin typeface="Times New Roman"/>
              </a:rPr>
              <a:t>4th Addition &amp; Subtraction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st Grouping symb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rd Multiplication &amp;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th Addition &amp; Subt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D2C-2B06-4161-9AA6-1E5B8708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6C6A-9AA5-4C41-BBEA-3FF63D60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62C3-8EA4-49D2-BB65-BF61AF8C7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8122-3126-48B1-9DD2-F247D5A1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6655-6BD1-4C15-8629-F19BAB78E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0899-00DB-49CF-BEB1-85AC6DB8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442D-4338-4B08-8CE1-B9377D36E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7911-956A-4291-8579-0B2D9593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D299-281D-461F-B0B6-246F142F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B796-8D3B-489C-B1C7-CB27C6F66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89C5-2972-4604-A11C-4D4E317C3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F7F5-4081-45F1-A6B4-2AEAFE4C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D4A4-BC72-4BBE-885E-7A06626C0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F719-3C1A-40ED-9CA5-910257BC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1015-F720-49AA-9FAB-FE63E5CD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97978-DD69-4E37-9690-8813B93AA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E5510-F21D-432C-932C-AE5BEA751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EE6C-DEB8-4775-A8E3-B9B539F22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4E2B-D419-4EFD-9A89-A6598433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9C90-FBDE-40C5-829E-8B558B5A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8400-9864-443F-B31A-4A04CB0B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F6C-D0E7-43AA-A1D3-B1F2FC01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C31-EF42-408D-888B-B398028A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ADD3-DC6B-4EE1-BC44-A9E0A80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218C4-A67A-44B6-9FEF-0BCDBAEFAE0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EC0C-4E6F-4104-8B28-2F2BBCDF988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1-2 Simplifying Expressions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ssignment:  Pages 10 - 11 / 2 - 44 eve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lculato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group of symbols used to represent a numbe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e number represented by the expre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3429000" y="2590920"/>
                <a:ext cx="145908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7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Value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qu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 combination of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2604960" y="2590920"/>
                <a:ext cx="2345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y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1143000" y="31240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7"/>
              <p:cNvSpPr txBox="1"/>
              <p:nvPr/>
            </p:nvSpPr>
            <p:spPr>
              <a:xfrm>
                <a:off x="1052640" y="1676520"/>
                <a:ext cx="5895720" cy="41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o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es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reat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Inequalit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ade by placing an inequality symbol between an expression and a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4"/>
              <p:cNvSpPr txBox="1"/>
              <p:nvPr/>
            </p:nvSpPr>
            <p:spPr>
              <a:xfrm>
                <a:off x="2986200" y="3124080"/>
                <a:ext cx="23446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y</m:t>
                    </m:r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Resul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um is the result of addi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Difference is the result of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roduct is the result of multiplica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Quotient is the result of divis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Pow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1066680" y="1676520"/>
                <a:ext cx="7315200" cy="25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ans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tsel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times</m:t>
                        </m:r>
                      </m:e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Grouping Symbo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ree main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1523880" y="2438280"/>
                <a:ext cx="4496040" cy="31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arentheses</m:t>
                        </m:r>
                      </m:e>
                      <m:e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rackets</m:t>
                        </m:r>
                      </m:e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  <m:r>
                              <m:t xml:space="preserve"> 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ivisio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ba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7617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Order of Operat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1s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Grouping symbol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n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Pow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3rd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Multiplication &amp; Divi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th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Addition &amp; Subtr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1T14:05:50Z</dcterms:created>
  <dc:creator>Shane Alan Fods</dc:creator>
  <dc:description/>
  <dc:language>en-US</dc:language>
  <cp:lastModifiedBy>RomaK</cp:lastModifiedBy>
  <dcterms:modified xsi:type="dcterms:W3CDTF">2015-09-04T09:20:57Z</dcterms:modified>
  <cp:revision>10</cp:revision>
  <dc:subject/>
  <dc:title>1-2 Simplifying Expressions.</dc:title>
</cp:coreProperties>
</file>